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C5E-4941-4E3C-8658-884633F6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B67-BDFD-4CB3-882A-824F015B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C95-8E4B-40EE-908C-6B674DF6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58B-6377-4555-9019-E3D77111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95E-15BE-41B9-AED7-4532CA41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20AC-177E-44FA-8ACD-CFDA41EE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3501-CB58-4F17-8EB7-03FBDEC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D47F-1E82-42E1-9392-4595360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1758-505D-4B66-9052-3D6AF646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A0D-81E0-40CF-8208-41EB41CD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0E6C-0CB7-4128-B53F-EB075267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590-0E3C-40A9-8526-1C4B262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90C3-9E7A-44B6-86FA-76B54518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BA8A-70A5-43B3-B2E6-488CE4C2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6A53-6A9A-41DF-89DB-A852929C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D71D-1E31-40B8-A4F2-66B376A6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A126-11E6-4C80-B7AF-B84050D9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310-B61C-4A02-80B1-BB78F596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C43-C5E4-4CB5-8D86-A18E3C0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D4B-23A9-4DA9-A220-A572C057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B93-35F9-4FAE-8C3C-C597789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F0D-AC1F-4415-A217-43A7191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242-18EE-46D7-AED5-B308345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1F0-F913-4470-9BD0-9FCDC58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8C4-4BA7-48D9-BF93-ED33A69B74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FA6-D57C-46B9-9DF6-A75D9487E3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2708280"/>
            <a:ext cx="813744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страивание оценивания в государственное управление: между научным дискурсом и НКО-фундаментализм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ниил Цыган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народная конферен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Государственное управление в XXI веке: традиции и инновации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ГУ им. Ломоносова (Москва), 31 мая - 2 июня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836640"/>
            <a:ext cx="532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-ВШЭ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ультет    государ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муниципаль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936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236000" y="907920"/>
            <a:ext cx="9522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44680" y="598320"/>
            <a:ext cx="81086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!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1700280"/>
            <a:ext cx="3500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аниил Цыг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3222360" cy="3973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6308640"/>
            <a:ext cx="7777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ttp://gmu.hse.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549360"/>
            <a:ext cx="813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ивание программ, политик и регулирующего вли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ь проведения административно-государственных реформ и внедрения оценивания политик на Западе характеризуют метафорой «сиамские близнец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оцениванием политик и программ в западной традиции понимается аналитическая процедура, направленная на диагностику и осмысление достижения целей и воздействия государственной политики (политико-административных мероприятий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очное исследование может рассматриваться как вариант прикладного междисциплинарного исследования, возникшего на стыке политической науки, экономики, социологии и пра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0920" y="646200"/>
            <a:ext cx="4969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ановка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2004 г. в России оценивание программ и политик развивалось в секторе НКО (иностранные доноры закладывают по умолчанию 2-7% бюджета на оценивание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многие отечественные специалисты в области социологии и госуправления, включенные в международное академическое сообщество, постепенно вводили в свои учебные курсы и прикладные исследования соответствующие подход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 2004 года бюджетная и административная реформы постепенно сформировали запрос на мониторинг и контроль результативности, а реформа техрегулирования – на подготовку ФЭО для технических регламентов, призванных прийти на смену советской системе ГОСТо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формистский импульс первого президентского срока Владимира Путина  и потекшие в министерские НИРы «нефтяные деньги» вызвали к жизни многие рационально-ориентированные подходы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25400" y="765000"/>
            <a:ext cx="5842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тико-управленческий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гинальная (англосаксонская) «версия» трехуровневой схемы реструктурирования центральной исполнительной власти (министерства, службы и надзоры, агентства) опирается на концепцию политико-управленческого цикл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cyc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политико-управленческого цикла, выросшая в англосаксонской политико-административной науке предполагает, что политики и бюрократы принимают решения не рационально, а по стадиям – с учетом вновь поступающей информации и изменения в объеме ресурсов разного р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5000" y="836640"/>
            <a:ext cx="603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дии политико-управленческого цикла –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риятие проблемы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percep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включает первичный анализ проблемы заинтересованными акторами и обществен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повест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sett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определение и уточнение целей, экспертиза инструментов и средств, которые можно использовать для решения пробл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ование полити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formul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 концентрируются на выборе инструментов и проектировании нормативного содержания, принятие решения относительно этапов и содержания поли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полити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implement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введение в действие программ/разработанных нор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вание результатов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ершение или переформулирование полити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ul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765000"/>
            <a:ext cx="720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тадии политико-управленческого цикла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ычно устанавливается непосредственная связь между автономными и ответственными государственными ведомствами / фазами политико-управленческого цикла, с одной стороны, и большей эффективностью управления -  с друго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идее - министерства отвечают за этап формулирования политики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licy formulati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гентства и службы ее реализуют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licy implementati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надзоры – контролируют и оценивают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В рамках административной реформы в России не было предусмотрено придать какому-либо ведомству (отделам внутри ведомств) функцию оценивания 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581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Интенсивность» внедрения оценивания в государстве и обществ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ади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инимальные требования к проведению государственной политик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удит целевого использ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нансовых сред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иторинг исполнения зак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AutoNum type="arabicPeriod" startAt="2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тервенционистская государственная поли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ниторинг реализации целевы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рамм и национальных проек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ка аппаратных заключе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вносимые проекты регулирующих ак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екоторых министерствах создаются подразделения, ответственные за аудит эффектив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531120" y="2232000"/>
            <a:ext cx="2122200" cy="1197000"/>
          </a:xfrm>
          <a:prstGeom prst="leftArrow">
            <a:avLst>
              <a:gd name="adj1" fmla="val 50000"/>
              <a:gd name="adj2" fmla="val 44323"/>
            </a:avLst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67440" y="4245120"/>
            <a:ext cx="1616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3933720"/>
            <a:ext cx="2122560" cy="1197000"/>
          </a:xfrm>
          <a:prstGeom prst="leftArrow">
            <a:avLst>
              <a:gd name="adj1" fmla="val 50000"/>
              <a:gd name="adj2" fmla="val 44331"/>
            </a:avLst>
          </a:prstGeom>
          <a:solidFill>
            <a:srgbClr val="ffffff"/>
          </a:solidFill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67440" y="2666880"/>
            <a:ext cx="16160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4365720"/>
            <a:ext cx="1524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Интенсивность» внедрения оценивания в государстве и обществ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ади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 startAt="3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заимодействие с бизнес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Оценка регулирующего воздействия обязательна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о носит формальный характер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роводятся публичные консультации с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участием бизнес-ассоциаций и СРО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изнес заказывает в консалтинговых фирмах/университетских центрах оценку своих корпоративных программ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ценивание встроено в государственное и корпоративное управление и в общественные институ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Оценка политик и программ является такой же «индустрией» как и оценка бизнеса (имущества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роисходит интеграция с менеджериальным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дходами типа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otal quality manag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Оценка внедрена снизу доверху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-800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Государственные органы задействованы в оценке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800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эффективности на всех этапах (ex-ante – ongoing – ex-pos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2276640"/>
            <a:ext cx="2122560" cy="1089000"/>
          </a:xfrm>
          <a:prstGeom prst="leftArrow">
            <a:avLst>
              <a:gd name="adj1" fmla="val 50000"/>
              <a:gd name="adj2" fmla="val 48727"/>
            </a:avLst>
          </a:prstGeom>
          <a:solidFill>
            <a:srgbClr val="ffffff"/>
          </a:solidFill>
          <a:ln cap="rnd" w="5724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2637000"/>
            <a:ext cx="1089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4508640"/>
            <a:ext cx="2122560" cy="1087200"/>
          </a:xfrm>
          <a:prstGeom prst="leftArrow">
            <a:avLst>
              <a:gd name="adj1" fmla="val 50000"/>
              <a:gd name="adj2" fmla="val 48808"/>
            </a:avLst>
          </a:prstGeom>
          <a:solidFill>
            <a:srgbClr val="ffffff"/>
          </a:solidFill>
          <a:ln cap="rnd" w="255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476280"/>
            <a:ext cx="748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и сценария развития оценивания в России в ближайшее десятилет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птимистиче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оздание полноценной системы оценивания в течение ближайших 4-5 лет, включая систему подготовки и переподготовки кадров для госорганов и корпор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ссимистиче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воевания последних лет ликвидируются; оценка маргинализуется как академический дискурс энтузиастов-одиночек, в практическом разрезе - вновь замыкается в НКО работающих на все более уменьшающиеся средства зарубежных доно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еалистически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уступки и отступления компенсируются новыми «окнами возможностей», что может подтолкнуть развитие оценки по траектории, значительно отличающейся от развития за рубеж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1:34:31Z</dcterms:created>
  <dc:creator>Даниил Цыганков</dc:creator>
  <dc:description/>
  <dc:language>en-US</dc:language>
  <cp:lastModifiedBy>DT</cp:lastModifiedBy>
  <dcterms:modified xsi:type="dcterms:W3CDTF">2007-06-01T17:53:35Z</dcterms:modified>
  <cp:revision>66</cp:revision>
  <dc:subject/>
  <dc:title>Встраивание оценивания в государственное управление: между научным дискурсом и НКО-фундаментализмом</dc:title>
</cp:coreProperties>
</file>