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071D-71E2-4E0F-B9D9-DCCD9FA3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8A0A-515F-4F47-834C-9FB9DFA6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0323-3336-4DDC-B13D-608C5541F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125C-DC96-4373-8DC0-20E36CE7D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1D56-8916-4B8C-B245-A2DEAF37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1D3C-15FB-4865-B0F0-40489029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0D36-9294-47D5-9AB6-34FF6E62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4C9A-F87D-4072-8F36-C394B633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AFFA-2CA7-4F1B-B91E-4CE1A693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FCD0-304F-4EE9-A5DE-8E754AF6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CF69-8CCD-4EAC-B618-8B51242E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114E-0E04-4CBF-98B9-6641E153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CA82-D104-493F-979E-5A4AEC7F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613B-BF72-437A-A166-5B58ABAC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FAE9-B52B-40B2-9E4A-F3C83D3F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8FD3-199A-476B-9F24-230AD76DD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5C3E-F606-492E-8022-57B036DFD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7AC8-7FB0-4D5D-98FD-234D15F9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AEDF-6659-4428-BAAA-DFE6AD34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CFD9-C81B-4DF7-BEFA-53586BBE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2D84-04CA-4A2C-86BA-87906B6E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83AE-D593-464D-AA5A-BCB0CC32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6466-643E-4121-B581-24927FB5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AC68-AA58-4A86-937A-6C89C169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AFAB-F32A-4D3D-A58F-7E6261EC61F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05AE-2870-45E8-9C7F-8DBAA1284EF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val-net.org/" TargetMode="External"/><Relationship Id="rId3" Type="http://schemas.openxmlformats.org/officeDocument/2006/relationships/hyperlink" Target="http://www.processconsulting.ru/" TargetMode="External"/><Relationship Id="rId4" Type="http://schemas.openxmlformats.org/officeDocument/2006/relationships/hyperlink" Target="http://www.nisse.ru/" TargetMode="External"/><Relationship Id="rId5" Type="http://schemas.openxmlformats.org/officeDocument/2006/relationships/hyperlink" Target="http://www.urbaneconomics.ru/" TargetMode="External"/><Relationship Id="rId6" Type="http://schemas.openxmlformats.org/officeDocument/2006/relationships/hyperlink" Target="http://www.iopp.ru/" TargetMode="External"/><Relationship Id="rId7" Type="http://schemas.openxmlformats.org/officeDocument/2006/relationships/hyperlink" Target="http://www.politanaliz.ru/" TargetMode="External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ценка программ и регулирующего влияния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овый рынок для исследований и научных разработок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.Б. Цыганк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ирекция Инновационного проекта  СПбГУ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.-Петербург, факультет философии и политологии СПбГУ, 2 октября 2007 г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2050920" y="1197000"/>
            <a:ext cx="59040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Факультет    государств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и муниципального управления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ГУ-ВШЭ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Институт оценки программ и политик (Моск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643280" y="549360"/>
          <a:ext cx="3760920" cy="66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549360"/>
                    <a:ext cx="37609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84360" y="692280"/>
            <a:ext cx="11253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3.1. Какие цели преследуют чиновники при обращении к научному знанию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научно-центрированные — приобретенные наукой знания могут увеличить рациональность политической практ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прикладные: легитимация решений, тактический выигрыш во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Квази-коррупционные: выделение средств «прикормленным» экспертам, «распил» НИРовских средст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iopp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3.2. Основные модели взаимодействия политиков (чиновников) и экспер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Технократическая» (чиновник заказывает, а эксперт подстраивается под его нужды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Меритократическая» (эксперты продвигают новые знания, иностранный опыт, а чиновники его внедряют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Взаимное обучение» (чиновники и эксперты путем многочисленных итераций находят баланс между рутиной государственной «машинерии» и инновативными разработками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iopp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795816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3.3.1. «Интенсивность» внедрения оценивания в государстве и обществе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стадии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1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. Минимальные требования к проведению государственной политики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00280" indent="-800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удит целевого использова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инансовых средст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00280" indent="-800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ниторинг исполнения законов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. Интервенционистская государственная политик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0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800280" indent="-800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ниторинг реализации целевых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грамм и национальных проект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00280" indent="-800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готовка аппаратных заключен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вносимые проекты регулирующих акт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00280" indent="-800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некоторых министерствах создаются подразделения, ответственные за аудит эффектив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6531120" y="2232000"/>
            <a:ext cx="2122200" cy="1197000"/>
          </a:xfrm>
          <a:prstGeom prst="leftArrow">
            <a:avLst>
              <a:gd name="adj1" fmla="val 50000"/>
              <a:gd name="adj2" fmla="val 44323"/>
            </a:avLst>
          </a:prstGeom>
          <a:solidFill>
            <a:srgbClr val="ffffff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967440" y="4245120"/>
            <a:ext cx="16160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us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16720" y="3933720"/>
            <a:ext cx="2122560" cy="1197000"/>
          </a:xfrm>
          <a:prstGeom prst="leftArrow">
            <a:avLst>
              <a:gd name="adj1" fmla="val 50000"/>
              <a:gd name="adj2" fmla="val 44331"/>
            </a:avLst>
          </a:prstGeom>
          <a:solidFill>
            <a:srgbClr val="ffffff"/>
          </a:solidFill>
          <a:ln w="572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67440" y="2666880"/>
            <a:ext cx="16160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о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48360" y="4365720"/>
            <a:ext cx="1524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о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iopp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3.3.2. «Интенсивность» внедрения оценивания в государстве и обществе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стадии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7761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</a:rPr>
              <a:t>3. Взаимодействие с бизнесом:</a:t>
            </a:r>
            <a:r>
              <a:rPr b="0" lang="ru-RU" sz="17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776160" indent="-7761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Unicode MS"/>
              </a:rPr>
              <a:t>Оценка регулирующего воздействия обязательна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7761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Unicode MS"/>
              </a:rPr>
              <a:t>            </a:t>
            </a:r>
            <a:r>
              <a:rPr b="0" lang="ru-RU" sz="1700" spc="-1" strike="noStrike">
                <a:solidFill>
                  <a:srgbClr val="000000"/>
                </a:solidFill>
                <a:latin typeface="Arial Unicode MS"/>
              </a:rPr>
              <a:t>но носит формальный характер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776160" indent="-7761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Unicode MS"/>
              </a:rPr>
              <a:t>Проводятся публичные консультации с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7761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Unicode MS"/>
              </a:rPr>
              <a:t>            </a:t>
            </a:r>
            <a:r>
              <a:rPr b="0" lang="ru-RU" sz="1700" spc="-1" strike="noStrike">
                <a:solidFill>
                  <a:srgbClr val="000000"/>
                </a:solidFill>
                <a:latin typeface="Arial Unicode MS"/>
              </a:rPr>
              <a:t>участием бизнес-ассоциаций и СРО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776160" indent="-7761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Unicode MS"/>
              </a:rPr>
              <a:t>Бизнес заказывает в консалтинговых фирмах/университетских центрах оценку своих корпоративных программ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7761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776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</a:rPr>
              <a:t>4. Оценивание встроено в государственное и корпоративное управление и в общественные институты: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76160" indent="-7761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Unicode MS"/>
              </a:rPr>
              <a:t>Оценка политик и программ является такой же «индустрией» как и оценка бизнеса (имущества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776160" indent="-7761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Unicode MS"/>
              </a:rPr>
              <a:t>Происходит интеграция с менеджериальными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7761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Unicode MS"/>
              </a:rPr>
              <a:t>              </a:t>
            </a:r>
            <a:r>
              <a:rPr b="0" lang="ru-RU" sz="1700" spc="-1" strike="noStrike">
                <a:solidFill>
                  <a:srgbClr val="000000"/>
                </a:solidFill>
                <a:latin typeface="Arial Unicode MS"/>
              </a:rPr>
              <a:t>подходами типа </a:t>
            </a:r>
            <a:r>
              <a:rPr b="0" lang="en-US" sz="1700" spc="-1" strike="noStrike">
                <a:solidFill>
                  <a:srgbClr val="000000"/>
                </a:solidFill>
                <a:latin typeface="Arial Unicode MS"/>
              </a:rPr>
              <a:t>Total quality managemen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776160" indent="-7761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Unicode MS"/>
              </a:rPr>
              <a:t>Оценка внедрена снизу доверху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776160" indent="-7761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Unicode MS"/>
              </a:rPr>
              <a:t>Государственные органы задействованы в оценке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7761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Unicode MS"/>
              </a:rPr>
              <a:t>             </a:t>
            </a:r>
            <a:r>
              <a:rPr b="0" lang="ru-RU" sz="1700" spc="-1" strike="noStrike">
                <a:solidFill>
                  <a:srgbClr val="000000"/>
                </a:solidFill>
                <a:latin typeface="Arial Unicode MS"/>
              </a:rPr>
              <a:t>эффективности на всех этапах (ex-ante – ongoing – ex-post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6516720" y="1989000"/>
            <a:ext cx="2122560" cy="1089000"/>
          </a:xfrm>
          <a:prstGeom prst="leftArrow">
            <a:avLst>
              <a:gd name="adj1" fmla="val 50000"/>
              <a:gd name="adj2" fmla="val 48727"/>
            </a:avLst>
          </a:prstGeom>
          <a:solidFill>
            <a:srgbClr val="ffffff"/>
          </a:solidFill>
          <a:ln cap="rnd" w="57240">
            <a:solidFill>
              <a:srgbClr val="cc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36000" y="2421000"/>
            <a:ext cx="10890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о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88000" y="4653000"/>
            <a:ext cx="2122560" cy="1087560"/>
          </a:xfrm>
          <a:prstGeom prst="leftArrow">
            <a:avLst>
              <a:gd name="adj1" fmla="val 50000"/>
              <a:gd name="adj2" fmla="val 48792"/>
            </a:avLst>
          </a:prstGeom>
          <a:solidFill>
            <a:srgbClr val="ffffff"/>
          </a:solidFill>
          <a:ln cap="rnd" w="25560">
            <a:solidFill>
              <a:srgbClr val="cc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iopp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85000" cy="56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1. Энтузиазм (осень 2004 г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 Unicode MS"/>
              </a:rPr>
              <a:t>Мы переходим во 2-ю фазу с хорошими шансами на эволюцию в сторону 3-ей фазы? 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Unicode MS"/>
              </a:rPr>
              <a:t>«именно сейчас внедрение методик и подходов оценивания политик является особенно актуальным»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Unicode MS"/>
              </a:rPr>
              <a:t>Политически сформулированы национальные приоритеты, носящие программный характер – удвоение ВВП, реформа армии, борьба с бедностью, создание рынка доступного жилья, реформа здравоохранения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Unicode MS"/>
              </a:rPr>
              <a:t>Практически происходит внедрение программно-целевых методов управления, методическую поддержку которых следует дополнить наработанным аппаратом методом оценивания политики и программ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iopp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785628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.2. Новые окна возможностей (осень 2005 г.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Unicode MS"/>
              </a:rPr>
              <a:t>Примеры игнорирования оценивания (монетизация льгот, назначения губернаторов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Unicode MS"/>
              </a:rPr>
              <a:t>Оценивание выходит на повестку дня?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Unicode MS"/>
              </a:rPr>
              <a:t>Счетная палата (от финансового аудита к аудиту эффективности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Unicode MS"/>
              </a:rPr>
              <a:t>МЭРТ (от мониторинга исполнения законов – к оценке регулирующего влияния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Unicode MS"/>
              </a:rPr>
              <a:t>РАО ЕЭС (модернизация технических стандартов в электроэнергетике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Unicode MS"/>
              </a:rPr>
              <a:t>Минфин (внешнее финансовое управление для регионов-реципиентов?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Unicode MS"/>
              </a:rPr>
              <a:t>Минобрнауки (оценка эффективности научных учреждений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iopp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4360" y="404640"/>
            <a:ext cx="818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.3. Дефициты экспертного сопровождения административной реформы (весна 2006 г.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 Unicode MS"/>
              </a:rPr>
              <a:t>Обычно устанавливается непосредственная связь между автономными и ответственными государственными ведомствами / фазами политико-управленческого цикла, с одной стороны, и большей эффективностью управления -  с другой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 Unicode MS"/>
              </a:rPr>
              <a:t>по идее - министерства отвечают за этап формулирования политики (</a:t>
            </a:r>
            <a:r>
              <a:rPr b="1" lang="en-US" sz="2100" spc="-1" strike="noStrike">
                <a:solidFill>
                  <a:srgbClr val="000000"/>
                </a:solidFill>
                <a:latin typeface="Arial Unicode MS"/>
              </a:rPr>
              <a:t>policy formulation</a:t>
            </a:r>
            <a:r>
              <a:rPr b="0" lang="ru-RU" sz="2100" spc="-1" strike="noStrike">
                <a:solidFill>
                  <a:srgbClr val="000000"/>
                </a:solidFill>
                <a:latin typeface="Arial Unicode MS"/>
              </a:rPr>
              <a:t>)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 Unicode MS"/>
              </a:rPr>
              <a:t>агентства и службы ее реализуют (</a:t>
            </a:r>
            <a:r>
              <a:rPr b="1" lang="en-US" sz="2100" spc="-1" strike="noStrike">
                <a:solidFill>
                  <a:srgbClr val="000000"/>
                </a:solidFill>
                <a:latin typeface="Arial Unicode MS"/>
              </a:rPr>
              <a:t>policy implementation</a:t>
            </a:r>
            <a:r>
              <a:rPr b="0" lang="ru-RU" sz="2100" spc="-1" strike="noStrike">
                <a:solidFill>
                  <a:srgbClr val="000000"/>
                </a:solidFill>
                <a:latin typeface="Arial Unicode MS"/>
              </a:rPr>
              <a:t>)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 Unicode MS"/>
              </a:rPr>
              <a:t>а надзоры – контролируют и оценивают (</a:t>
            </a:r>
            <a:r>
              <a:rPr b="1" lang="en-US" sz="2100" spc="-1" strike="noStrike">
                <a:solidFill>
                  <a:srgbClr val="000000"/>
                </a:solidFill>
                <a:latin typeface="Arial Unicode MS"/>
              </a:rPr>
              <a:t>control </a:t>
            </a:r>
            <a:r>
              <a:rPr b="0" lang="en-US" sz="2100" spc="-1" strike="noStrike">
                <a:solidFill>
                  <a:srgbClr val="000000"/>
                </a:solidFill>
                <a:latin typeface="Arial Unicode MS"/>
              </a:rPr>
              <a:t>/</a:t>
            </a:r>
            <a:r>
              <a:rPr b="1" lang="en-US" sz="2100" spc="-1" strike="noStrike">
                <a:solidFill>
                  <a:srgbClr val="000000"/>
                </a:solidFill>
                <a:latin typeface="Arial Unicode MS"/>
              </a:rPr>
              <a:t>evaluation</a:t>
            </a:r>
            <a:r>
              <a:rPr b="0" lang="ru-RU" sz="2100" spc="-1" strike="noStrike">
                <a:solidFill>
                  <a:srgbClr val="000000"/>
                </a:solidFill>
                <a:latin typeface="Arial Unicode MS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2100" spc="-1" strike="noStrike">
                <a:solidFill>
                  <a:srgbClr val="cc0000"/>
                </a:solidFill>
                <a:latin typeface="Arial Unicode MS"/>
              </a:rPr>
              <a:t>     </a:t>
            </a:r>
            <a:r>
              <a:rPr b="0" lang="ru-RU" sz="2100" spc="-1" strike="noStrike">
                <a:solidFill>
                  <a:srgbClr val="cc0000"/>
                </a:solidFill>
                <a:latin typeface="Arial Unicode MS"/>
              </a:rPr>
              <a:t>Российские эксперты, консультировавшие органы исполнительной власти, не ставили в центр концепцию политико-управленческого цикла. Поэтому не удивительно, что не предусмотрели придать какому-либо ведомству функцию оценивани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iopp.ru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00100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4.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 Три сценария развития оценивания в России в следующем политическом цикл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 Unicode MS"/>
              </a:rPr>
              <a:t>Оптимистический</a:t>
            </a:r>
            <a:r>
              <a:rPr b="0" lang="ru-RU" sz="2200" spc="-1" strike="noStrike">
                <a:solidFill>
                  <a:srgbClr val="000000"/>
                </a:solidFill>
                <a:latin typeface="Arial Unicode MS"/>
              </a:rPr>
              <a:t> - создание полноценной системы оценивания в течение ближайших 4-5 лет, включая систему подготовки и переподготовки кадров для госорганов и корпораций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 Unicode MS"/>
              </a:rPr>
              <a:t>Пессимистический</a:t>
            </a:r>
            <a:r>
              <a:rPr b="0" lang="ru-RU" sz="2200" spc="-1" strike="noStrike">
                <a:solidFill>
                  <a:srgbClr val="000000"/>
                </a:solidFill>
                <a:latin typeface="Arial Unicode MS"/>
              </a:rPr>
              <a:t> – завоевания последних лет ликвидируются; оценка маргинализуется как академический дискурс энтузиастов-одиночек, в практическом разрезе - вновь замыкается в НКО работающих на все более уменьшающиеся средства зарубежных донор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 Unicode MS"/>
              </a:rPr>
              <a:t>Реалистический</a:t>
            </a:r>
            <a:r>
              <a:rPr b="0" lang="ru-RU" sz="2200" spc="-1" strike="noStrike">
                <a:solidFill>
                  <a:srgbClr val="000000"/>
                </a:solidFill>
                <a:latin typeface="Arial Unicode MS"/>
              </a:rPr>
              <a:t> – уступки и отступления компенсируются новыми «окнами возможностей», что может подтолкнуть развитие оценки по траектории, значительно отличающейся от развития за рубежом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iopp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7929720" cy="78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n-line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ресурсы по оцениванию в Руне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 Unicode MS"/>
              </a:rPr>
              <a:t>Международная сеть «Оценка программ» - </a:t>
            </a:r>
            <a:r>
              <a:rPr b="0" i="1" lang="en-US" sz="22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Arial Unicode MS"/>
                <a:hlinkClick r:id="rId2"/>
              </a:rPr>
              <a:t>www.eval-net.org</a:t>
            </a:r>
            <a:r>
              <a:rPr b="0" i="1" lang="en-US" sz="2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 Unicode MS"/>
              </a:rPr>
              <a:t>Компания «Процесс-консалтинг» -</a:t>
            </a:r>
            <a:r>
              <a:rPr b="0" i="1" lang="en-US" sz="2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Arial Unicode MS"/>
                <a:hlinkClick r:id="rId3"/>
              </a:rPr>
              <a:t>www.processconsulting.r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 Unicode MS"/>
              </a:rPr>
              <a:t>АНО ИЦ «Бизнес-Тезаурус» -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Arial Unicode MS"/>
                <a:hlinkClick r:id="rId4"/>
              </a:rPr>
              <a:t>www.nisse.r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 Unicode MS"/>
              </a:rPr>
              <a:t>Фонд «Институт экономики города»  -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Arial Unicode MS"/>
                <a:hlinkClick r:id="rId5"/>
              </a:rPr>
              <a:t>www.urbaneconomics.r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 Unicode MS"/>
              </a:rPr>
              <a:t>Институт оценки программ и политик –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Arial Unicode MS"/>
                <a:hlinkClick r:id="rId6"/>
              </a:rPr>
              <a:t>www.iopp.r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 Unicode MS"/>
              </a:rPr>
              <a:t>Сайт Политанализ.Ру -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Arial Unicode MS"/>
                <a:hlinkClick r:id="rId7"/>
              </a:rPr>
              <a:t>www.politanaliz.ru</a:t>
            </a:r>
            <a:r>
              <a:rPr b="0" i="1" lang="ru-RU" sz="2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 Unicode MS"/>
              </a:rPr>
              <a:t>Блог Даниила Цыганкова – </a:t>
            </a:r>
            <a:r>
              <a:rPr b="0" i="1" lang="en-US" sz="2200" spc="-1" strike="noStrike" u="sng">
                <a:solidFill>
                  <a:srgbClr val="336699"/>
                </a:solidFill>
                <a:uFillTx/>
                <a:latin typeface="Arial Unicode MS"/>
              </a:rPr>
              <a:t>datsygankov.livejournal.ru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iopp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44680" y="598320"/>
            <a:ext cx="810864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Спасибо за внимание</a:t>
            </a:r>
            <a:r>
              <a:rPr b="1" lang="de-DE" sz="2800" spc="-1" strike="noStrike">
                <a:solidFill>
                  <a:srgbClr val="000000"/>
                </a:solidFill>
                <a:latin typeface="Arial Unicode MS"/>
              </a:rPr>
              <a:t>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16360" y="1700280"/>
            <a:ext cx="350028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rmAutofit/>
          </a:bodyPr>
          <a:p>
            <a:pPr marL="469800" indent="-4698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7921440" cy="495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iopp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План презентации</a:t>
            </a:r>
            <a:r>
              <a:rPr b="0" lang="de-DE" sz="2800" spc="-1" strike="noStrike">
                <a:solidFill>
                  <a:srgbClr val="000000"/>
                </a:solidFill>
                <a:latin typeface="Arial Unicode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valuation: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азбучные исти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Индустрия оценивания в современном мир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Политики, чиновники и экспер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От эйфории 2004 г. - к осторожному оптимизму на 2008-2012 г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iopp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76500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1.1.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Evaluation, assessment, monitoring?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66280" y="1752120"/>
            <a:ext cx="80377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бщем под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gram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licy evaluation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нимают аналитическую процедуру, направленную на диагностику и осмысление достижения целей и воздействия государственной политики (политико-административных мероприятий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ценочное исследование может рассматриваться как вариант прикладного междисциплинарного исследования, возникшего на стыке социологии управления, политической науки, организационной психологии экономики и прав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iopp.ru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47628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1.2. Междисциплинарный характер оценивания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66280" y="1752120"/>
            <a:ext cx="80377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специалисты по государственному управлению говорят о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performance audi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regulatory impact asses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экономисты – о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effeciency, effectivenes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&amp;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performance management 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</a:rPr>
              <a:t> и о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policy-evidence evalu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юристы – о 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</a:rPr>
              <a:t>оценке качества законодатель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политологи – о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policy e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психологи – о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</a:rPr>
              <a:t> развитии потенциала организ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менеджеры – об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</a:rPr>
              <a:t> управлении качеством / управлении проект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iopp.ru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4000" y="76500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1.3. Виды и методы оценивания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«Объективистский» подход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vs. action resear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Интенсивные теоретические дебаты с 60-х гг. прошлого столет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Исследовательский дизайн –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ethods mix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, но в небольших малобюджетных проектов методологическая проработанность падает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На всем протяжении политико-управленческого цикла (до, во время и после программы, проекта, мероприятия, реализации закона и т.д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В индустрии оценивания уже выделились отдельные течения –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IA, RIT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&amp;D) E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iopp.ru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68360" y="47628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2.1. </a:t>
            </a:r>
            <a:r>
              <a:rPr b="0" lang="en" sz="2800" spc="-1" strike="noStrike">
                <a:solidFill>
                  <a:srgbClr val="000000"/>
                </a:solidFill>
                <a:latin typeface="Arial Unicode MS"/>
              </a:rPr>
              <a:t>Audit Society: Rituals of Verification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 ? (движущие силы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Процесс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изменение политической повестк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финансовый кризи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реформ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Коллективные и индивидуальные агенты поля власти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Парламент (пример – США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Счетная палата (пример – Нидерланды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Ученые и чиновники (пример – Швейцария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iopp.ru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47628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2.2. Развитие рынка оценоч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исследований за рубеж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вая волна (60-е гг.) - Оценка итогов реализации государственных программ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торая волна (70-е гг.) – Оптимизация бюджетных расходов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етья волна (90-е гг.) – Реформы государственного управления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public managemen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ниверситетские цент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алтинговые фирм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ильные отделы в госорган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ильные подразделения в корпорац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ильные подразделения в международных организациях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an Commission, World Ban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др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iopp.ru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68360" y="76500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2.3. Оценивание в России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до 2004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-4654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Чем-то похожие подходы развивались в рамках планирования и прогнозирования в советское время, но при переходе к рыночной экономике были выплеснуты за бор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5480" indent="-4654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С начала 90-х годов как трансферт зарубежных практик, в секторе НКО (иностранные доноры закладывают по умолчанию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2-7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% бюджета на оценивани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5480" indent="-46548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В научной дискуссии публикации начала 90-х прошли практически незамеченными и затем в течение 10 лет эта тема никем не разрабатывалась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Статьи С.П. Стародубцева в «Социсе» (№7, 1992 и № 8, 199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5480" indent="-46548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Немногие отечественные специалисты в области социологии и госуправления, включенные в международное сообщество, постепенно вводили в свои учебные курсы и прикладные исследования соответствующие подходы, затем подготовили отдельные учебные дисциплины (МВШСЭ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ВШЭ – с 2003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iopp.ru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2.4. Развитие рынка оценочных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исследований в России (2004-2007 гг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С 2004 года бюджетная и административная реформы постепенно сформировали запрос на мониторинг и контроль результативности, а реформа техрегулирования – на подготовку ФЭО для технических регламентов, призванных прийти на смену советской системе ГОСТ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Реформистский импульс первого президентского срока Владимира Путина  и потекшие в министерские НИРы «нефтяные деньги» вызвали к жизни многие рационально-ориентированные подходы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</a:rPr>
              <a:t>Тем не мене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Университетские центры – мал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Консалтинговые компании – единично, в основном в Москв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Профильные отделы в госорганах – пока н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Профильные подразделения в корпорациях – начали появлятьс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iopp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12:19:19Z</dcterms:created>
  <dc:creator>Daniel Tsygankov</dc:creator>
  <dc:description/>
  <dc:language>en-US</dc:language>
  <cp:lastModifiedBy>d</cp:lastModifiedBy>
  <dcterms:modified xsi:type="dcterms:W3CDTF">2007-10-02T19:29:45Z</dcterms:modified>
  <cp:revision>135</cp:revision>
  <dc:subject/>
  <dc:title>Evaluation in Russla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52746087</vt:r8>
  </property>
  <property fmtid="{D5CDD505-2E9C-101B-9397-08002B2CF9AE}" pid="3" name="_AuthorEmail">
    <vt:lpwstr>dtsygankov@hse.ru</vt:lpwstr>
  </property>
  <property fmtid="{D5CDD505-2E9C-101B-9397-08002B2CF9AE}" pid="4" name="_AuthorEmailDisplayName">
    <vt:lpwstr>Цыганков Даниил Борисович</vt:lpwstr>
  </property>
  <property fmtid="{D5CDD505-2E9C-101B-9397-08002B2CF9AE}" pid="5" name="_EmailSubject">
    <vt:lpwstr>конференция</vt:lpwstr>
  </property>
  <property fmtid="{D5CDD505-2E9C-101B-9397-08002B2CF9AE}" pid="6" name="_ReviewingToolsShownOnce">
    <vt:lpwstr/>
  </property>
</Properties>
</file>